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51B-173B-47A3-B042-1CA728DE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9F2-803A-424B-94AB-0D95C72C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7F717-FAB5-4BA0-8FDE-BF815FF8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F4C56-404C-45A7-8931-CE8AB4E6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EE3C9-D6DC-4214-89C1-D8A15758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D3A6D-D534-49EF-ADE0-51A6F576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41B50-B306-4952-9563-D9BBBEF4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80031-D41A-4C05-BDD8-609397D2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576EB-F948-4F84-B1A3-32E2A5D7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FCCCD-B090-4AF7-B319-727BBC53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40B5F-6FD0-4ADF-8E0F-310006F5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D76BF-3543-4D9D-A5A8-246DE996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1D8-81FD-4293-BDF5-F7B2DAA6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346D1-768D-4393-B005-35ED357D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6FD37-6800-4FDA-98CD-088E215D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7B4AB-4664-43B3-9F38-4532ECCC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81487-1CAB-45EC-BE02-7DED61C7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54930-B070-48F1-871C-5DFAE32D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903CF-028B-429F-AA73-9A67CFA6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CEEB2-2C01-4263-8C51-57AD9559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721E3-288C-41EC-8DE6-AC193964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BCDB6-2648-4F33-8B5D-94129E86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3FE47-F010-495A-AE40-BC5654A2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49C-234D-4C2C-9945-53F68A02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B162E-90A0-4ED0-BB19-54C508E3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5ACF-F030-4D17-A961-0B7FEE14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A124-24CD-49E7-BAF0-934C5DEF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2875-FB04-4EF1-8F3D-3CB01777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DFCF-52F2-4B4C-9536-09268388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7551-4087-422E-AD64-37C9D231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F8F3-92D6-400C-ABAC-47E9CC7F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7F2D-4F22-4E7B-8D72-CAA1AE6F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3CC-18E5-4002-861C-3B5F6A41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391F-E206-45A0-95BB-0ACB1414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A466-326B-483D-AEBB-4DD3B518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E611-237C-4A11-B883-D74DB014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77FB-BC81-4C69-BE87-5084AA1C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EB86-0FD4-4079-8186-E803FC74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40D2-21CC-447C-829B-DB0B73A7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4C83D-BA91-4DCA-97AE-4961A6F6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FC06-4177-43CC-9F66-473662A7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32CBA-24D0-4F03-84F9-E5A476BB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552C8-5AA4-4007-AB8B-73242FCA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AA5-42B7-4D46-B5CA-AF892356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ACA11-C088-4C1F-9B39-ED54B085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220F7-9FDB-4602-BB85-72F914CE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B6024-065C-46F2-B205-EE537159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99A09-E1E4-4EC4-BE2B-2927098F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A1A22-2246-4412-B421-C537C5B4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35836-83F6-45EE-88DB-293822B6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AE98-210B-4C6E-A2FC-733F94FE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46766-BA33-407D-97BC-865B9AA2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00A69-4E0E-4447-8B9C-D30E1191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BE1CE-C4B2-41BB-8429-D967D2B4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AD3-2C27-48AD-8433-821D3C1A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73420-08EA-4110-9285-7025F91C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6124C-B4F2-4035-A745-3FCD58DE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A5DAE-B51F-45BB-86B5-9688A4FE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1F432-C5C4-4F91-8D7C-5C4B5658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ED54B-1FF6-4A11-834A-6C5D460E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FF844-17E2-44E5-93D3-C7D25C3A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9F96E-4C96-4294-B5E0-22792637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1E419-FF98-4861-A597-AB2F5263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AB6F6-37C8-44F1-887D-2D8B18A4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54D77-43FB-4805-A129-3717F71F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6C53-8157-43E1-9791-0F9481F8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53EDF-FC2E-4B41-A1C5-7D9F2327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F3808-21F0-4D6E-A7B3-0CE9E635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B2855-805C-4CFD-9295-461B38E3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8A1CE-23AD-4FB6-B756-1B3DE355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F46F8-6865-494E-9E19-C1C0DED6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85184-5A4B-47EC-B8F7-43786274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EC346-CBE6-4BCB-9B43-9A2E22BE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BC878-EA9B-41CC-AFE2-0251E2B2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96550-2397-4811-B847-7DE38E3D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51490-A883-4109-85C6-A932AE37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A38-64EA-437E-A529-F63AB020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52DA2-B4FF-450F-9F94-5A8A012B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BBE93-31A1-4BE2-8BEE-C0B2935C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64E91-A37F-443B-A146-D6C849BC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9D29D-7488-4D4B-AECC-487C7219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112AF-5664-4481-B48A-E44F1247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50A0B-6B51-465A-AF21-C6446EFE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0FECD-0198-4631-AAF5-29BFC1F6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27EB8-963B-4C47-B2AD-7D12F267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2AD06-AD6C-4127-8FCB-D4886693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D8F27-92C4-4654-8F82-5C69721B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21F-6CB4-4FF2-8730-B832FB7A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71607-676C-45E1-A0F8-70B2552C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9C9E4-3821-4303-9A9B-E2303108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3B4C5-CA48-4642-9C06-97C1A0FB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0B965-3FD3-44AA-BD41-EB5342F4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B0A28-0482-4E06-BA0B-6B0F615D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187D1-B1CD-407E-B3C8-6DBA1133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95A9B-5B7A-4054-BCD0-680CCF54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4AC7A-2EF3-4F7D-B076-EB01D895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712B9-AFF6-4F0B-8728-E12249F8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94570-0D10-4CA3-8221-D754248E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E3B-8524-41DF-94CC-50569E6C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FD2FA-BA4B-4695-BC19-47AC48F1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35F1A-4237-44C8-A9D9-A478E835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CB809-E289-49E9-9035-99C7D1D5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DB936-CD66-4CC9-A383-099377E3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A2890-E263-4034-A5D2-8DC3AA25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CCA36-E525-45D4-8ECF-CDD446C2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701BD-9014-4B5B-8D45-0AF75930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8780B-F90B-4036-966C-4C193622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EC31C-7439-44BB-A954-2C2213C3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4121E-EB2F-4E51-9007-5EFE771C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BD7-DCB8-43AC-A818-D6AECBB3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EF7B1-3708-4047-8FA5-4CEEB8B8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BD658-4B17-4BFB-B3C8-2BD3D9FB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EF80D-96E5-47CB-A643-B53FAB7B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4236D-9199-4C66-878E-FC17FEB6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388C9-CC76-4407-AF4E-5AD5E721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A5A55-F255-4B97-8209-D7BB0476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A75C2-70D5-4949-B7AB-2911884B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0F545-368A-4DF5-8D8B-4A8D8516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DBEAF-D349-4B60-A75B-C30B5A35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21434-A2AE-4CBD-8BCE-765D7ACD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F323-F08E-4CDA-9711-42C7312D2E4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C1E0-AEFF-4685-B3DE-290F958D88F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74F3-36F0-4ED5-BDB3-605AF7B9906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EFA4-3909-4017-891A-9E934606951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16E8-DA1C-49FA-B5D2-56EFF264594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5C25-8AD3-440D-BCD8-637E2B45642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5ADC-2627-4BA4-BEF1-5613DF6CE50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6006-B647-426A-B437-4C30389D1AD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1AC3-09C7-4BED-BA15-F0872363BDC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E94B-2A9C-4960-80C9-3D782D1F8AF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9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느 나라에서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국 사람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미국 사람이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그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영국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미국 사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mer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그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 (t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영국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b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의사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는 부산이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≈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 which; interogative adj. always followed by a noun (cf.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느 것이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나라 사람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회사에서 일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음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독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캐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프랑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oom number ~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 음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캐나다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브라운 씨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7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독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201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롯데백화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라호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2-03T16:57:09Z</dcterms:modified>
  <cp:revision>104</cp:revision>
  <dc:subject/>
  <dc:title>KOREAN LANGUAGE</dc:title>
</cp:coreProperties>
</file>